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3B125-0ABC-4E20-858C-C6A663A13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3855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85E83-B97C-47A2-95AA-2A6FE700E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0106E-1D3F-4514-9723-4C124EB1D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E3283-E784-4540-BCCC-745386553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CFAC9-A27F-4F99-ACA9-8FD8460D8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96178-B9BB-401A-8327-401D92B45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2A3EC-9A43-4B85-9D85-79B520EC3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784B2-1BE0-4DC0-993F-E396AB8BB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BC19F-FC6A-45C8-ABF6-8771234F6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7E9A0-CA31-43F1-8BFF-907E05E8C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01ACE-314F-4D25-9AAA-7405A377B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62EC4-174A-4175-8386-BDC6A30C7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7B826-CDB3-486D-A1BE-4464A226A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0D118-F48F-4609-94FD-72B8C1D5C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3855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B7861-EFF3-4535-B25B-2BE402BBE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B8339-5F2D-4D05-95BF-5F9F80C54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86E3E-B5B2-4FD4-907B-F490AD7A4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F9CD1-FF61-4A1F-ADD1-D415C54F2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8216D-028A-4B25-83D7-6C23691F7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229AF-FE2A-49F1-925E-94804E301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3AD57-93F7-44C9-9C9E-298155993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9EAE7-8EB2-4330-A0BD-959B2A2C9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FE99C-C49E-4BCD-AD39-0D8418083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454E4-254C-4229-AA75-F5BEF789C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5920" indent="-196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F3ED2-F70E-4678-A732-145C80E2CD72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7FCFD-72C4-4F87-9A74-FC80C4A29B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ormatShape" hidden="1"/>
          <p:cNvSpPr/>
          <p:nvPr/>
        </p:nvSpPr>
        <p:spPr>
          <a:xfrm>
            <a:off x="-1333440" y="1701720"/>
            <a:ext cx="1181160" cy="825480"/>
          </a:xfrm>
          <a:prstGeom prst="rect">
            <a:avLst/>
          </a:prstGeom>
          <a:noFill/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99840" y="1523520"/>
            <a:ext cx="6095880" cy="18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E6207-EE46-4347-9317-789F5939F6AD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FD051-4A9F-4445-A18C-EFF32AD150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99840" y="1523520"/>
            <a:ext cx="6095880" cy="18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ETSI and Lawful Interception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682280" y="4076280"/>
            <a:ext cx="5861160" cy="12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bin Gap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ir TC Sec WG L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C710D-D305-4857-8099-3360F0A40FC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P Repo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escribes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ructures probl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mmon understan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ay point to solu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7C673-EBC2-4C03-AD4B-1C0B4023CE4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Data Handov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2560" y="2057400"/>
          <a:ext cx="7772400" cy="43974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2560" y="2057400"/>
                    <a:ext cx="7772400" cy="439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F6C0B-DE7D-4F11-A955-AE861D09710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y standardis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rket avail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ow c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peed to mark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ow hass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ffici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69B5E-D097-4B0B-BA15-4DD39B3CB1C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Players in ETS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per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nufactur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M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gulators &amp; Minist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aw Enforcement Agen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EE3E3-466C-4E5C-9569-96EDDC69BA0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at is ETSI doing for data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M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IPH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ultime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cludes vo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ther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rket dri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1ADF0-292E-4AC6-B9F5-4AC4E87AC68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ere is the market goin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ull steam ah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ere the demand 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and more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etail not cl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rowth will contin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896FD-BA76-45B7-A78F-CBFC7673817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he Fu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pport ETS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dopt ETSI standa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heap, for every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erocious pace of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very hard to st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2C1C9-24BE-404B-B63B-42ED5549AA3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More inf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eb s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ww.etsi.or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ub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ttp://webapp.etsi.org/pda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G L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ttp://www.etsi.org/SEC/sec_li.ht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77A15-55BE-47A8-8FF6-61B2D8655CA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bout ETS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uropean Telecommunications Standards Institu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 “standards factory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rket driv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road industry particip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uropean and Global play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EC28D-492D-44F2-AD1E-5E3BB658930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PSTN Achiev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echnical Handover Interf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S 201 671 v1 19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S 201 671 v2 2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lus supporting docu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A Requirements (ETR 33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etwork Elements (ES 201 158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B3D82-77BB-4984-9181-10F79F957BF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 Major Suc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arted with 17th January 1995 Re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illed out” LEA requirements 199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etwork elements 199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andover Interface 19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vised Handover Interface 20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5112A-8873-46A6-8B53-C8327D5CDAD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tructure of Handov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dminist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tercept related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ntent of commun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pecifies the boundary on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C8866-CF71-4068-95EE-C2BFF057CBC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6500880" y="5829480"/>
            <a:ext cx="2119320" cy="84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944800" y="1219320"/>
          <a:ext cx="6192720" cy="54529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944800" y="1219320"/>
                    <a:ext cx="6192720" cy="545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430200" y="3967200"/>
            <a:ext cx="2286000" cy="243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P = Access provi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HI = Handover interface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IF = internal intercepting function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NI = internal network interface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LEMF = Law enforcement monitoring facility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MF = Mediation function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NWO = Network operator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vP = Service provi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8AA2E-0417-4777-A64F-448285B7A83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doption of ES 201 67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nufactur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uropean Count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orld-w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F5F56-8B76-4FD8-A385-AE0B42F797A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Mobi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SM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S 101 5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SM Intern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S 101 509 (03.3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lso TET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N 301 04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8A0D9-30F9-4005-B44F-20ED3127830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Data Achiev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PRS Handover Interf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R 101 8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S 201 671 v2 2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PRS Intern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nex B of TS 101 5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port “Issues on IP Interception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R 101 94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B807E-2AA8-4000-A584-4EFC5BF0568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12T15:55:13Z</dcterms:created>
  <dc:creator>Sonia Coleman</dc:creator>
  <dc:description/>
  <dc:language>en-US</dc:language>
  <cp:lastModifiedBy>infosys</cp:lastModifiedBy>
  <dcterms:modified xsi:type="dcterms:W3CDTF">2001-06-04T05:58:49Z</dcterms:modified>
  <cp:revision>6</cp:revision>
  <dc:subject/>
  <dc:title>Title</dc:title>
</cp:coreProperties>
</file>